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AA23-4860-48EA-9FAE-82274C0D8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63F9-EAEC-453B-BBF6-5139E0067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87CC-54E8-44AB-BA35-323DDE04B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1131-103C-4B17-98CF-18AB5F790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2007-EBC1-482E-AECC-8697A24B2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0E65-7F16-415D-956F-9C8EFF71F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B671-1C62-413E-AE88-25FC71EEC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83C6-7C37-4FEE-882F-A0B3D2AF1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604F-8A51-4D24-A36C-267CDFD38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69AE-57A2-4568-8FF4-AE916A021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630-A818-4945-AEE7-DE1522CD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B1F-8C48-4706-8604-1CEF01ED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A17-D10A-4928-A051-03E5742C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2FB-E85D-4A58-8B1A-8BD4FCE6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1FF-F5BD-4794-B552-C588F666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E77-771E-4B44-A6DB-4BBEFCCD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498-6645-4193-A135-7B7D8652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A9D-C2CA-4AEC-AFB1-A32C3CF6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D4D-A072-42D7-8DC6-5BF6A81F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657-3B3B-4FDD-8B9F-00CDFE8E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188-B20B-45C7-A378-3C071529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501-FDD3-4BAD-932E-0245AB07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27B9-69FE-4288-8255-1DE961DCB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0"/>
          <p:cNvSpPr/>
          <p:nvPr/>
        </p:nvSpPr>
        <p:spPr>
          <a:xfrm>
            <a:off x="76320" y="65160"/>
            <a:ext cx="5333760" cy="1068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ject Execution Planning for Building Inform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PACE: The Partnership for Achieving Construction Excellence"/>
          <p:cNvPicPr/>
          <p:nvPr/>
        </p:nvPicPr>
        <p:blipFill>
          <a:blip r:embed="rId2"/>
          <a:stretch/>
        </p:blipFill>
        <p:spPr>
          <a:xfrm>
            <a:off x="2743200" y="3505320"/>
            <a:ext cx="4524480" cy="384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Penn State Office of Physical Plant"/>
          <p:cNvPicPr/>
          <p:nvPr/>
        </p:nvPicPr>
        <p:blipFill>
          <a:blip r:embed="rId3"/>
          <a:stretch/>
        </p:blipFill>
        <p:spPr>
          <a:xfrm>
            <a:off x="5943600" y="2514600"/>
            <a:ext cx="2009880" cy="65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II logo"/>
          <p:cNvPicPr/>
          <p:nvPr/>
        </p:nvPicPr>
        <p:blipFill>
          <a:blip r:embed="rId4"/>
          <a:stretch/>
        </p:blipFill>
        <p:spPr>
          <a:xfrm>
            <a:off x="6781680" y="1600200"/>
            <a:ext cx="914400" cy="52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pankowfoundation.org/images/pankow_site_logo.gif"/>
          <p:cNvPicPr/>
          <p:nvPr/>
        </p:nvPicPr>
        <p:blipFill>
          <a:blip r:embed="rId5"/>
          <a:srcRect l="0" t="0" r="0" b="8522"/>
          <a:stretch/>
        </p:blipFill>
        <p:spPr>
          <a:xfrm>
            <a:off x="6095880" y="228600"/>
            <a:ext cx="1789200" cy="1114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2"/>
          <p:cNvSpPr/>
          <p:nvPr/>
        </p:nvSpPr>
        <p:spPr>
          <a:xfrm>
            <a:off x="685800" y="1295280"/>
            <a:ext cx="51814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gress Meeting #3 – August 2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76320" y="2057400"/>
            <a:ext cx="487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buildingSMART Alliance project sponsor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Charles Pankow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nstruction Industry Institute (C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n State Office of Physical Plant (O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ference Call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533520" y="129528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gres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cussion of Project and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t Up Next Meet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eam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533520" y="1295280"/>
            <a:ext cx="815328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oard of Advis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Deke Smith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Executive Director of buildingSMART Alliance (Industry Champio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Victor Sanvido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h.D., Senior Vice President, Southland Industr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Francois Grobler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h.D., US Army CERL and IAI - North Amer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teve Hagan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roject Knowledge Center, U.S. General Services Administ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oad Kousheshi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resident, AEC Strate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Ed Gannon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Manager of Design Services, Penn State Office of Physical Pla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Falzarano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Barton Malow Compan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Butl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HD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IC Research Program Team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John Messn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Director of the CIC Research Progr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himay Anumba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rofessor and Head of Architectural Enginee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am Hunter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Assist. Professor of Psycholo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raig Dubl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hD Student, Architectural Engineering (Constructio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olleen Kasprzak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Operation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hitwan Saluja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Plannin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Nevena Zikic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Desig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hane Goodman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AE/MAE Student, Architectural Enginee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onsor Represe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Bob Ten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 Director, The Charles Pankow Foundat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teve Thomas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– Director of Research, The Construction Industry Institu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gress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533520" y="1295280"/>
            <a:ext cx="792468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tinuing to develop initial concept for BIM Execution Plann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view process under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tent analysis performed on completed inter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ed initial BIM goals for BIM Execution Planning course for fall 2008, started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8"/>
          <p:cNvSpPr/>
          <p:nvPr/>
        </p:nvSpPr>
        <p:spPr>
          <a:xfrm>
            <a:off x="228600" y="2590920"/>
            <a:ext cx="2362320" cy="190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Characteristics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M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6553080" y="2590920"/>
            <a:ext cx="2362320" cy="190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uide for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M Go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9"/>
          <p:cNvSpPr/>
          <p:nvPr/>
        </p:nvSpPr>
        <p:spPr>
          <a:xfrm>
            <a:off x="76320" y="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IM Execution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3429000" y="2743200"/>
            <a:ext cx="23623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27"/>
          <p:cNvSpPr/>
          <p:nvPr/>
        </p:nvSpPr>
        <p:spPr>
          <a:xfrm>
            <a:off x="2362320" y="3124080"/>
            <a:ext cx="1218960" cy="152640"/>
          </a:xfrm>
          <a:prstGeom prst="rightArrow">
            <a:avLst>
              <a:gd name="adj1" fmla="val 50000"/>
              <a:gd name="adj2" fmla="val 49912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28"/>
          <p:cNvSpPr/>
          <p:nvPr/>
        </p:nvSpPr>
        <p:spPr>
          <a:xfrm>
            <a:off x="5638680" y="3124080"/>
            <a:ext cx="1219320" cy="152640"/>
          </a:xfrm>
          <a:prstGeom prst="rightArrow">
            <a:avLst>
              <a:gd name="adj1" fmla="val 50000"/>
              <a:gd name="adj2" fmla="val 4992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ecision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533520" y="1295280"/>
            <a:ext cx="815328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ased on project 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duct/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 the building MEP intens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oes the company have appropriate exper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oes the company have the appropriate too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 the project fast track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 the project cost driv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 are the local co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 are the critical access poi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mmitment/Con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 is the project delivery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533520" y="63244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nformation can also be used for a BIM project rating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53352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533520" y="1295280"/>
            <a:ext cx="79246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inual Development of Guid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views – complete list of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se Study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M Ex Course – AE 597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search and Document BIM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se Study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53352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533520" y="1295280"/>
            <a:ext cx="79246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ys that you can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view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ass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jects to test drive BIM Execution Pla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533520" y="1295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 Meeting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11:04Z</dcterms:created>
  <dc:creator>cmk264</dc:creator>
  <dc:description/>
  <dc:language>en-US</dc:language>
  <cp:lastModifiedBy>crd137</cp:lastModifiedBy>
  <dcterms:modified xsi:type="dcterms:W3CDTF">2008-08-25T20:00:56Z</dcterms:modified>
  <cp:revision>134</cp:revision>
  <dc:subject/>
  <dc:title>Slide 1</dc:title>
</cp:coreProperties>
</file>